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89181567"/>
        <c:axId val="58719199"/>
      </c:barChart>
      <c:catAx>
        <c:axId val="89181567"/>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8719199"/>
        <c:crosses val="autoZero"/>
        <c:auto val="1"/>
        <c:lblAlgn val="ctr"/>
        <c:lblOffset val="100"/>
        <c:noMultiLvlLbl val="0"/>
      </c:catAx>
      <c:valAx>
        <c:axId val="58719199"/>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9181567"/>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DEE5F-CBE5-4E54-9A3B-DDA83E175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7A0A3-782E-4742-BC50-F0025DDB2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11F55-5A81-4DAA-8C70-B6AAB1B5D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E79DD-8CC7-4F4F-ACD6-F0C5F4333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4937AD-4FCA-49D4-A190-650ABAD9F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BC514-99D9-4F02-9D8C-07EE0C7D6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F0446-9871-4087-811F-79973CB8E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7D276-204E-4751-B80C-AC0A847C4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726B4-287C-4CEA-B583-D8EAFCC44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5A2D3-7988-4C2C-9BE6-6AAA18C2D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F99F1-F504-4E77-86F4-BA9C449D6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FDC1F-6E22-4EC5-8973-BC5DBB8FB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C7848-A543-44B8-B679-BA0DD9D22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CC895-B7CB-405F-87D0-1E48D2846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1AE56-0B8C-4691-BBA9-2DD4D8386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0A332-68BE-41DA-AA8E-6D5B6A554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B6ED0-B04F-4CC1-A34D-35784A31C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39DFE-35B2-42D6-83D9-24ACB1C59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19C76-2DDB-4EE7-9886-E15453FC0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29132-1DEE-4055-9B8E-5AEB1C7E9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51FDF-43DD-4295-9C75-F2DE7B4A5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487F3-FF60-499A-A03D-040D57599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DD0E2-C1C5-4954-A467-CE011D2AE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4673A-C1F6-4592-BE1A-7D7DCCF01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82F47C-A473-413F-9E73-C921E4AB41C2}"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AE67A1-2A32-4CF1-AE72-EC7AFD0C20C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